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285-312A-4433-8FE3-4835495E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77B-059F-4967-97EE-7C8E8145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FA0-1011-4311-A3C7-538C3818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C4D4-CDEE-45EB-9AFF-2941AA00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85E-BD25-4D5F-9808-E5310C3D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416-1200-4F19-B509-83CB2F17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6557-354A-46A9-AE44-43357BC2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79A-9E47-47F8-9590-5437D2ED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451-F453-42D1-90AD-904EB9DB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6CF-E5FB-4946-8AA0-A29C10B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FF6-3285-4B5A-BC8B-4FEC097C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E84-5C4F-4048-B225-6046F080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87FE-E0EC-48C4-AC09-AA4942C8A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399" t="0" r="15601" b="0"/>
          <a:stretch/>
        </p:blipFill>
        <p:spPr>
          <a:xfrm>
            <a:off x="0" y="0"/>
            <a:ext cx="10159920" cy="762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560" y="2819160"/>
            <a:ext cx="100710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DFKai-SB"/>
              </a:rPr>
              <a:t>Meine Ferien Nach Deutschland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022880" y="7009920"/>
            <a:ext cx="313668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onika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6200" y="68580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ine Ferien Cost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gzeug: $7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143.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ail: $3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Vienna: $100.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414.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99280" y="40384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7960" y="57913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6019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754.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618" t="0" r="16191" b="0"/>
          <a:stretch/>
        </p:blipFill>
        <p:spPr>
          <a:xfrm>
            <a:off x="0" y="0"/>
            <a:ext cx="1015992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031840" y="1752120"/>
            <a:ext cx="6477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08960" y="1828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843228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31480" y="1828800"/>
            <a:ext cx="6324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680" y="571500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fliege nach Düsseldorf. Denn, Ich farhe mit der Bahn ins Vienna. Ich bliebe in Vienna fur 1 Tag, denn Ich gehe nach Düsseldorf. Zuletzt, Ich fliege nach Chicago. (An die Karte, Vienna ist unter Düsseldor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000" y="326880"/>
            <a:ext cx="7726320" cy="1589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720" y="1727280"/>
            <a:ext cx="49053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ch fliege nach Düsseldorf am der Flugzeug. Ich fliege in “Economy class”, es ist sehr billig. Ich fleige um 7:15 Nachmittag zu 8:25 dass Nacht. Meine Flug ist am Januar 21st und Ich fliege nach Chicago am Januar 2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Ich verlasse Düsseldorf um 10:30 in der Morgen und Ich erhalte im Chicago um 3:30 Nachmit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92880" y="1512720"/>
            <a:ext cx="4424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3960" y="380520"/>
            <a:ext cx="4114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Düsseldor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ufen on Konigs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56080" y="1447920"/>
            <a:ext cx="342900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3556080" cy="2667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04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R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1480" y="3352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4624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70880" y="457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nsth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32440" y="1447920"/>
            <a:ext cx="332748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308560" y="6781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11538" t="0" r="5772" b="0"/>
          <a:stretch/>
        </p:blipFill>
        <p:spPr>
          <a:xfrm>
            <a:off x="3556080" y="4038480"/>
            <a:ext cx="3276360" cy="266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7840" y="701028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rcRect l="0" t="0" r="3648" b="0"/>
          <a:stretch/>
        </p:blipFill>
        <p:spPr>
          <a:xfrm>
            <a:off x="6807240" y="4038480"/>
            <a:ext cx="3352680" cy="263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5668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70880" y="7010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in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432640" y="6705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2920" y="326880"/>
            <a:ext cx="2805120" cy="390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0560" y="4470480"/>
            <a:ext cx="40114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u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tnessra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die Stad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5280" y="406440"/>
            <a:ext cx="5194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ese Hotel ist im Düsseldorf. Ich bliebe hier fur 1 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65560" y="2057400"/>
            <a:ext cx="36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000" y="422280"/>
            <a:ext cx="6118200" cy="264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6880" y="3132000"/>
            <a:ext cx="7050240" cy="152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2960" y="4343400"/>
            <a:ext cx="3355920" cy="303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5680" y="49528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ist  mein Eurail Pass. Es costet $315 und $17 fur “Pass Loss &amp; Theft Coverage”. Mit mein Pass, Ich kann an der Bahn farhe im Deutschland und Austria. An der Bahn, Ich gehe durch Amsetten. Amsetten is zwischen Düsseldorf und Vien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DFKai-SB"/>
              </a:rPr>
              <a:t>Vien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3040" y="18288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51560" y="1828800"/>
            <a:ext cx="3200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nbrunn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nsthistorisches Muse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rgarten Schonbru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vedere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ter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s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2920" y="254160"/>
            <a:ext cx="3323880" cy="3895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37120" y="254160"/>
            <a:ext cx="4340160" cy="533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4280" y="419112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i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 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ffee und 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4152960" cy="478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78440" y="304920"/>
            <a:ext cx="4495680" cy="391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4880" y="4724280"/>
            <a:ext cx="35956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i der Bah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ph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itchell</cp:lastModifiedBy>
  <dcterms:modified xsi:type="dcterms:W3CDTF">2012-01-07T21:47:02Z</dcterms:modified>
  <cp:revision>4</cp:revision>
  <dc:subject/>
  <dc:title>PowerPoint Presentation</dc:title>
</cp:coreProperties>
</file>